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153-4D79-47AB-AB3F-B9FC0B42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247-8701-4B88-BA72-9E3EAAE5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CF8-4017-48C9-887D-22AC47A8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DBB-6279-4ADC-9D5C-2BD5C58B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956-E6F4-4F3B-9EA2-3D8CCFA0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614-D73F-49C1-97A2-AF89EC92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C87-0ED6-424A-BA2B-E81B70A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E3A-E5D3-43B6-A585-F3A31C5C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433-15AF-47E1-8045-07260598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042-7FCC-47D9-B7CC-B9AE881B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547-3413-4655-AB4D-DECC2B7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92E-4799-4FA5-84B3-0457F95E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68E1-BA39-4354-9F4F-C341603C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3327480" cy="400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973080" y="1341360"/>
            <a:ext cx="96854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0" spc="-1" strike="noStrike">
                <a:solidFill>
                  <a:srgbClr val="993366"/>
                </a:solidFill>
                <a:latin typeface="Comic Sans MS"/>
              </a:rPr>
              <a:t>Est-ce que je peux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3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453360"/>
          </a:xfrm>
          <a:prstGeom prst="ellipse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549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être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volontai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9800" y="3186000"/>
            <a:ext cx="781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ouvrir/fermer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fenêt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84720" y="4292640"/>
            <a:ext cx="2016360" cy="1423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6560" y="216000"/>
            <a:ext cx="7777440" cy="2133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3141720"/>
            <a:ext cx="7777080" cy="2735280"/>
          </a:xfrm>
          <a:prstGeom prst="wedgeRoundRectCallout">
            <a:avLst>
              <a:gd name="adj1" fmla="val -47736"/>
              <a:gd name="adj2" fmla="val 77509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360" y="260280"/>
            <a:ext cx="82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parler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en angl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00" y="3068640"/>
            <a:ext cx="82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9900"/>
                </a:solidFill>
                <a:latin typeface="Comic Sans MS"/>
              </a:rPr>
              <a:t>distribu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0560" y="1284120"/>
            <a:ext cx="2378160" cy="132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43280" y="4359240"/>
            <a:ext cx="2808360" cy="1878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6560" y="260280"/>
            <a:ext cx="8282160" cy="2448000"/>
          </a:xfrm>
          <a:prstGeom prst="wedgeRoundRectCallout">
            <a:avLst>
              <a:gd name="adj1" fmla="val -47527"/>
              <a:gd name="adj2" fmla="val 7068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13000"/>
            <a:ext cx="7777440" cy="3024360"/>
          </a:xfrm>
          <a:prstGeom prst="wedgeRoundRectCallout">
            <a:avLst>
              <a:gd name="adj1" fmla="val -50981"/>
              <a:gd name="adj2" fmla="val 61601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431640" y="880920"/>
            <a:ext cx="82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avoir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un poi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068640"/>
            <a:ext cx="907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Comic Sans MS"/>
              </a:rPr>
              <a:t>aller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aux toilet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78400" y="4149720"/>
            <a:ext cx="88560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7080" y="647640"/>
            <a:ext cx="1871640" cy="141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216000"/>
            <a:ext cx="8424720" cy="2133360"/>
          </a:xfrm>
          <a:prstGeom prst="wedgeRoundRectCallout">
            <a:avLst>
              <a:gd name="adj1" fmla="val -42537"/>
              <a:gd name="adj2" fmla="val 70013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852640"/>
            <a:ext cx="8713800" cy="3024360"/>
          </a:xfrm>
          <a:prstGeom prst="wedgeRoundRectCallout">
            <a:avLst>
              <a:gd name="adj1" fmla="val -50018"/>
              <a:gd name="adj2" fmla="val 66796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19640" y="260280"/>
            <a:ext cx="558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cc"/>
                </a:solidFill>
                <a:latin typeface="Comic Sans MS"/>
              </a:rPr>
              <a:t>un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cahi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Comic Sans MS"/>
              </a:rPr>
              <a:t>une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feuil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cc"/>
                </a:solidFill>
                <a:latin typeface="Comic Sans MS"/>
              </a:rPr>
              <a:t>un</a:t>
            </a: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 sty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1480" y="1628640"/>
            <a:ext cx="320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9900"/>
                </a:solidFill>
                <a:latin typeface="Comic Sans MS"/>
              </a:rPr>
              <a:t>avo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27720" y="4941720"/>
            <a:ext cx="838080" cy="120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00440" y="4826160"/>
            <a:ext cx="320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9900"/>
                </a:solidFill>
                <a:latin typeface="Comic Sans MS"/>
              </a:rPr>
              <a:t>boi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560" y="216000"/>
            <a:ext cx="8066160" cy="3860640"/>
          </a:xfrm>
          <a:prstGeom prst="wedgeRoundRectCallout">
            <a:avLst>
              <a:gd name="adj1" fmla="val -49388"/>
              <a:gd name="adj2" fmla="val 6262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4390920"/>
            <a:ext cx="5904000" cy="2133720"/>
          </a:xfrm>
          <a:prstGeom prst="wedgeRoundRectCallout">
            <a:avLst>
              <a:gd name="adj1" fmla="val -67800"/>
              <a:gd name="adj2" fmla="val 40995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190440"/>
            <a:ext cx="8642160" cy="30956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-27000"/>
            <a:ext cx="7631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cc"/>
                </a:solidFill>
                <a:latin typeface="Comic Sans MS"/>
              </a:rPr>
              <a:t>parce que</a:t>
            </a: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 je suis…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430440"/>
            <a:ext cx="8569080" cy="331164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5080" y="3430440"/>
            <a:ext cx="7631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cc"/>
                </a:solidFill>
                <a:latin typeface="Comic Sans MS"/>
              </a:rPr>
              <a:t>parce que</a:t>
            </a: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 j’</a:t>
            </a:r>
            <a:r>
              <a:rPr b="1" lang="en-GB" sz="10000" spc="-1" strike="noStrike">
                <a:solidFill>
                  <a:srgbClr val="cc3399"/>
                </a:solidFill>
                <a:latin typeface="Comic Sans MS"/>
              </a:rPr>
              <a:t>ai</a:t>
            </a: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00000" y="0"/>
            <a:ext cx="7489800" cy="2016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fantastiqu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2060640"/>
            <a:ext cx="7489800" cy="194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intelligent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4076640"/>
            <a:ext cx="7490160" cy="2781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availl</a:t>
            </a:r>
            <a:r>
              <a:rPr b="0" lang="en-GB" sz="9600" spc="-1" strike="noStrike">
                <a:solidFill>
                  <a:srgbClr val="0000cc"/>
                </a:solidFill>
                <a:latin typeface="Comic Sans MS"/>
              </a:rPr>
              <a:t>e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availl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e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278080"/>
            <a:ext cx="7994520" cy="2016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ien particip</a:t>
            </a:r>
            <a:r>
              <a:rPr b="0" lang="en-GB" sz="9600" spc="-1" strike="noStrike">
                <a:solidFill>
                  <a:srgbClr val="cc3399"/>
                </a:solidFill>
                <a:latin typeface="Comic Sans MS"/>
              </a:rPr>
              <a:t>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437000"/>
            <a:ext cx="7994520" cy="2016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ev</a:t>
            </a:r>
            <a:r>
              <a:rPr b="0" lang="en-GB" sz="9600" spc="-1" strike="noStrike">
                <a:solidFill>
                  <a:srgbClr val="cc3399"/>
                </a:solidFill>
                <a:latin typeface="Comic Sans MS"/>
              </a:rPr>
              <a:t>é</a:t>
            </a: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 la m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44360"/>
            <a:ext cx="7994520" cy="2016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ien travaill</a:t>
            </a:r>
            <a:r>
              <a:rPr b="0" lang="en-GB" sz="9600" spc="-1" strike="noStrike">
                <a:solidFill>
                  <a:srgbClr val="cc3399"/>
                </a:solidFill>
                <a:latin typeface="Comic Sans MS"/>
              </a:rPr>
              <a:t>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44280"/>
            <a:ext cx="8064360" cy="331164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5080" y="144360"/>
            <a:ext cx="7631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000000"/>
                </a:solidFill>
                <a:latin typeface="Comic Sans MS"/>
              </a:rPr>
              <a:t>parce que c’est…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3429000"/>
            <a:ext cx="7489800" cy="1655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compliqu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2560" y="5229360"/>
            <a:ext cx="748980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nécessai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2:21:48Z</dcterms:created>
  <dc:creator>llegal</dc:creator>
  <dc:description/>
  <dc:language>en-US</dc:language>
  <cp:lastModifiedBy> </cp:lastModifiedBy>
  <dcterms:modified xsi:type="dcterms:W3CDTF">2010-01-31T06:52:59Z</dcterms:modified>
  <cp:revision>9</cp:revision>
  <dc:subject/>
  <dc:title>Slide 1</dc:title>
</cp:coreProperties>
</file>